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E0A-0C73-4FBF-8BB9-097E8167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E4A-0E18-4040-960F-B43393ED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1A4-8CC3-4041-BBFF-96C389FD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9B1-F54D-4DBB-BC0E-26C5C780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CF74-5763-4EBC-B5B5-AA76E8EF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6681-F0CE-4D82-9567-A0033242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343C-5838-4E59-BAEB-5DCF66A5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41AB-CE3F-4F19-800B-235DDE4F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99B8-6FC6-4307-91F5-B4F82E21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C192-E3E3-425C-B32C-2AEE5509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65BE-278A-4937-B92E-777DD5A4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ED0-6010-4294-9506-B0448164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6925-EC42-4DE8-8B8B-667CE105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D0A3-0E7D-4C11-ACF0-7B0DF2A9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65E0-1AEC-43F9-9351-FE2350FF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54D8-AF75-4BA7-A29A-A2816C7D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9EAC-8673-4DF6-8B83-C75A17A5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A12B5-510C-4FED-A233-0BD67FA9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15EB3-4C53-49CE-8370-A78988B3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FAE9A-8E86-4685-9980-97817F19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FAF9F-5B08-424B-89B9-D9A9F25A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B0EAE-1CA5-44B8-84D6-A650AC26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E71F-D361-4906-8C66-F72EBDB6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BB8C1-F6F3-443B-8604-DA821ACE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2441-041C-427F-8C42-D1FDD51D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09809-A3C7-4E4B-96F8-ABB22ED4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DBCCA-DECC-4CBA-9FE0-227B1D50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FEB5B-240A-4698-8297-5BF8017D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4B164-DEEE-4019-8541-5908C57F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82461-78A5-4593-A8F9-C230B723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C7EE8-FB6C-41B4-8115-464DDF0F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844A8-3BBD-480A-826E-CED0DC4B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2D0A8-DC67-4FBA-B33E-B2DE4C2B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322-D763-4EFE-B31C-7638EBA3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DAE15-AFA4-4970-91B3-82D06137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E2AB3-DD7F-40A3-A221-F47F7238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AD1E6-49CA-421E-90D7-BBB20342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4DEF6-CBF4-454A-A881-741AA841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DD390-4B91-4CF1-9184-7D3F8823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1471D-3C8B-4B32-B398-962FCBCE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D8E5C-207E-47D2-8550-9F514D47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55249-CB6D-479A-BC93-F6FB1C06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5E319-D52C-433D-84CB-3A9DA6BF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CEEBF-F787-4A2C-A099-405FA050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563-5EB1-4B49-8C12-28F9AF37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B273D-8FCE-4428-9BFF-91438DCA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6F46B-2557-4264-AB96-1BFA7D3A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25345-8094-4886-9257-9B2AB4C9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C5A8B-22BB-46A4-81A4-7F293C4A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EF1FA-6CFD-48CA-AF34-9B0DE567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AF339-6510-410A-AB4C-93A7A604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0D1EB-9824-474D-B7EC-7A22D777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E4C79-8B75-4086-A2F2-368DEA78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0DEAB-7C5D-48A8-B2BF-F187B86E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38308-78DE-4246-B1F2-C0D133D0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28F-C1CA-40C3-863D-944A1E4E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2F981-9789-44E9-906E-9946F2A2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E25A2-4536-4CC3-B9EA-DBD3BAAB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B1D5A-262A-4B4F-AC0C-DB00A52A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2381E-86AA-4A92-857A-7FCDD334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15300-181F-4BB9-BE3B-8BDF0094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7FD75-032F-4BA2-8B8B-594B9081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8F1DC-C054-4B4B-94DD-0DC04652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1838C-008A-44AD-89F0-229E84B7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6438C-5CD2-4E52-9141-52A0CA1E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D83FD-A94F-4365-A1DB-37870394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9E9-34AF-4DC3-82E9-426588C6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D54D6-1FD1-4651-B7F1-4319F139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0B871-1F20-4A27-9EC5-835E6A85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6FE4F-1190-476A-AA57-E7F91548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67222-FF6C-441D-A303-95CA2ED3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C6E93-D9A9-472A-B2A4-B7DD6BFB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D85BB-9636-4462-BE3D-95A0A4C9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51496-9A33-41D6-A9B7-A6212F82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FD720-E7F4-491D-9FD3-F3FFB273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265CE-3048-451C-962C-D4640B3A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4A62D-6CC0-447C-B9A3-E3B2C6BB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9FE3-0AAB-4875-96FE-E92FB741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90BAB-C1CB-4E8C-BA4E-8F49A08C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D2368-0208-4630-9D5E-2DD65045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430ED-AB5F-43B4-97B3-9F10C862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77CE3-4B4E-4416-94F0-D25799E6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17187-4157-44EF-87E7-45C29724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B150-A558-4C32-83DC-41D18357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饼形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同心圆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同心圆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21C3-0FEA-4B53-AA33-88A95425E6F2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同心圆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同心圆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椭圆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椭圆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A237-EFE5-4609-B22D-C63A359B89AD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椭圆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椭圆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椭圆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F18F-C5B0-48FB-A0E1-74F48B014DEC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8698-13D7-4A34-BFFE-A6ED913A13E7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4E7F-4DAD-46E6-A45F-DFB4E6C1859F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4855-86F2-48D6-BD37-583EF99454E8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矩形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矩形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流程图: 过程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流程图: 过程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6F85-72AD-4777-BA37-A4E06264C58E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矩形 3" descr=""/>
          <p:cNvPicPr/>
          <p:nvPr/>
        </p:nvPicPr>
        <p:blipFill>
          <a:blip r:embed="rId1"/>
          <a:stretch/>
        </p:blipFill>
        <p:spPr>
          <a:xfrm>
            <a:off x="1073160" y="1023840"/>
            <a:ext cx="7862760" cy="3498840"/>
          </a:xfrm>
          <a:prstGeom prst="rect">
            <a:avLst/>
          </a:prstGeom>
          <a:ln w="0">
            <a:noFill/>
          </a:ln>
        </p:spPr>
      </p:pic>
      <p:pic>
        <p:nvPicPr>
          <p:cNvPr id="319" name="矩形 4" descr=""/>
          <p:cNvPicPr/>
          <p:nvPr/>
        </p:nvPicPr>
        <p:blipFill>
          <a:blip r:embed="rId2"/>
          <a:stretch/>
        </p:blipFill>
        <p:spPr>
          <a:xfrm>
            <a:off x="6248520" y="5241960"/>
            <a:ext cx="22190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4"/>
          <p:cNvSpPr/>
          <p:nvPr/>
        </p:nvSpPr>
        <p:spPr>
          <a:xfrm>
            <a:off x="223920" y="333360"/>
            <a:ext cx="51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2"/>
          <p:cNvSpPr/>
          <p:nvPr/>
        </p:nvSpPr>
        <p:spPr>
          <a:xfrm>
            <a:off x="1258920" y="83664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务三：测电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生手机搜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键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用表测电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键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字万用表测电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键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字万用表测直流电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4"/>
          <p:cNvSpPr/>
          <p:nvPr/>
        </p:nvSpPr>
        <p:spPr>
          <a:xfrm>
            <a:off x="223920" y="333360"/>
            <a:ext cx="51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2066760" y="870480"/>
            <a:ext cx="564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手机端接收的微课视频再次学习测电压的方法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测量数据填入下列表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633680" y="2060640"/>
          <a:ext cx="6538680" cy="3240000"/>
        </p:xfrm>
        <a:graphic>
          <a:graphicData uri="http://schemas.openxmlformats.org/drawingml/2006/table">
            <a:tbl>
              <a:tblPr/>
              <a:tblGrid>
                <a:gridCol w="2525400"/>
                <a:gridCol w="2068560"/>
                <a:gridCol w="1944720"/>
              </a:tblGrid>
              <a:tr h="108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1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 Sans MT"/>
                          <a:ea typeface="华文中宋"/>
                        </a:rPr>
                        <a:t>端电压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2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 Sans MT"/>
                          <a:ea typeface="华文中宋"/>
                        </a:rPr>
                        <a:t>端电压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 Sans MT"/>
                          <a:ea typeface="华文中宋"/>
                        </a:rPr>
                        <a:t>总电压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7964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 Sans MT"/>
                          <a:ea typeface="华文中宋"/>
                        </a:rPr>
                        <a:t>结论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3"/>
          <p:cNvSpPr/>
          <p:nvPr/>
        </p:nvSpPr>
        <p:spPr>
          <a:xfrm>
            <a:off x="223920" y="333360"/>
            <a:ext cx="51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"/>
          <p:cNvSpPr/>
          <p:nvPr/>
        </p:nvSpPr>
        <p:spPr>
          <a:xfrm>
            <a:off x="1403280" y="126828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教师讲解，根据参考答案同学们完成自评，评分完成，请组长把评分表交给老师。（数据在误差范围内均视为正确，正确的打√，错误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每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http://imgup.100ye.com/mnt/img1/0/1/2/1502/newsimage/6133bf44a48a052870b717163ea68865.jpeg"/>
          <p:cNvPicPr/>
          <p:nvPr/>
        </p:nvPicPr>
        <p:blipFill>
          <a:blip r:embed="rId1"/>
          <a:stretch/>
        </p:blipFill>
        <p:spPr>
          <a:xfrm>
            <a:off x="2357280" y="2251080"/>
            <a:ext cx="3934080" cy="2219400"/>
          </a:xfrm>
          <a:prstGeom prst="rect">
            <a:avLst/>
          </a:prstGeom>
          <a:ln w="0">
            <a:noFill/>
          </a:ln>
        </p:spPr>
      </p:pic>
      <p:pic>
        <p:nvPicPr>
          <p:cNvPr id="359" name="矩形 2" descr=""/>
          <p:cNvPicPr/>
          <p:nvPr/>
        </p:nvPicPr>
        <p:blipFill>
          <a:blip r:embed="rId2"/>
          <a:stretch/>
        </p:blipFill>
        <p:spPr>
          <a:xfrm>
            <a:off x="5248440" y="1384200"/>
            <a:ext cx="36273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ttp://s14.go007.com/2014/5/7/20140507095608783539.jpg"/>
          <p:cNvPicPr/>
          <p:nvPr/>
        </p:nvPicPr>
        <p:blipFill>
          <a:blip r:embed="rId1"/>
          <a:stretch/>
        </p:blipFill>
        <p:spPr>
          <a:xfrm>
            <a:off x="1042920" y="44280"/>
            <a:ext cx="3848040" cy="36291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http://www.app315.net/images/about-img_14.jpg"/>
          <p:cNvPicPr/>
          <p:nvPr/>
        </p:nvPicPr>
        <p:blipFill>
          <a:blip r:embed="rId2"/>
          <a:stretch/>
        </p:blipFill>
        <p:spPr>
          <a:xfrm>
            <a:off x="2952720" y="3573360"/>
            <a:ext cx="53913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4"/>
          <p:cNvSpPr/>
          <p:nvPr/>
        </p:nvSpPr>
        <p:spPr>
          <a:xfrm>
            <a:off x="223920" y="333360"/>
            <a:ext cx="51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621648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矩形 3" descr=""/>
          <p:cNvPicPr/>
          <p:nvPr/>
        </p:nvPicPr>
        <p:blipFill>
          <a:blip r:embed="rId1"/>
          <a:stretch/>
        </p:blipFill>
        <p:spPr>
          <a:xfrm>
            <a:off x="6656400" y="5248440"/>
            <a:ext cx="2371680" cy="15303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"/>
          <p:cNvPicPr/>
          <p:nvPr/>
        </p:nvPicPr>
        <p:blipFill>
          <a:blip r:embed="rId2"/>
          <a:stretch/>
        </p:blipFill>
        <p:spPr>
          <a:xfrm>
            <a:off x="1230480" y="476280"/>
            <a:ext cx="70783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1166760" y="836640"/>
            <a:ext cx="3857760" cy="2504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5292720" y="907920"/>
            <a:ext cx="3494160" cy="238932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"/>
          <p:cNvSpPr/>
          <p:nvPr/>
        </p:nvSpPr>
        <p:spPr>
          <a:xfrm>
            <a:off x="1832400" y="40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家庭照明电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6584400" y="333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室里的日关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3"/>
          <a:stretch/>
        </p:blipFill>
        <p:spPr>
          <a:xfrm>
            <a:off x="2567160" y="3957480"/>
            <a:ext cx="4466880" cy="27846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7"/>
          <p:cNvSpPr/>
          <p:nvPr/>
        </p:nvSpPr>
        <p:spPr>
          <a:xfrm>
            <a:off x="4942800" y="358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节日里的一串串彩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1460520" y="143676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通过阅读材料和视频资料，学会连接串联电路，用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万用表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串联电阻的电阻、电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"/>
          <p:cNvSpPr/>
          <p:nvPr/>
        </p:nvSpPr>
        <p:spPr>
          <a:xfrm>
            <a:off x="1459080" y="4124160"/>
            <a:ext cx="74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通过测试数据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验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串联电路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223920" y="333360"/>
            <a:ext cx="51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3"/>
          <p:cNvSpPr/>
          <p:nvPr/>
        </p:nvSpPr>
        <p:spPr>
          <a:xfrm>
            <a:off x="1258920" y="765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电路的连接方式有哪两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362240" y="3860640"/>
            <a:ext cx="68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串联电路有哪些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"/>
          <p:cNvSpPr/>
          <p:nvPr/>
        </p:nvSpPr>
        <p:spPr>
          <a:xfrm>
            <a:off x="1281240" y="21798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串联和并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3"/>
          <p:cNvSpPr/>
          <p:nvPr/>
        </p:nvSpPr>
        <p:spPr>
          <a:xfrm>
            <a:off x="1363680" y="5229360"/>
            <a:ext cx="75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等流、分压、电阻之和为总电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223920" y="333360"/>
            <a:ext cx="51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3"/>
          <p:cNvSpPr/>
          <p:nvPr/>
        </p:nvSpPr>
        <p:spPr>
          <a:xfrm>
            <a:off x="1460520" y="14367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k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k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电阻串联在空白的多孔实验板上，并测试该串联电路的电阻、电压，分析测量结果所满足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"/>
          <p:cNvSpPr/>
          <p:nvPr/>
        </p:nvSpPr>
        <p:spPr>
          <a:xfrm>
            <a:off x="224640" y="333360"/>
            <a:ext cx="51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矩形 2" descr=""/>
          <p:cNvPicPr/>
          <p:nvPr/>
        </p:nvPicPr>
        <p:blipFill>
          <a:blip r:embed="rId1"/>
          <a:stretch/>
        </p:blipFill>
        <p:spPr>
          <a:xfrm>
            <a:off x="950760" y="1352520"/>
            <a:ext cx="77598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前凸带形 3"/>
          <p:cNvSpPr/>
          <p:nvPr/>
        </p:nvSpPr>
        <p:spPr>
          <a:xfrm>
            <a:off x="1692360" y="549360"/>
            <a:ext cx="5472000" cy="1152360"/>
          </a:xfrm>
          <a:custGeom>
            <a:avLst/>
            <a:gdLst>
              <a:gd name="textAreaLeft" fmla="*/ 1368000 w 5472000"/>
              <a:gd name="textAreaRight" fmla="*/ 4104000 w 5472000"/>
              <a:gd name="textAreaTop" fmla="*/ 19188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Gill Sans MT"/>
                <a:ea typeface="华文中宋"/>
              </a:rPr>
              <a:t>操作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1347840" y="2276640"/>
            <a:ext cx="640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测电阻：不通电、选档、读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3"/>
          <p:cNvSpPr/>
          <p:nvPr/>
        </p:nvSpPr>
        <p:spPr>
          <a:xfrm>
            <a:off x="1225440" y="3645000"/>
            <a:ext cx="640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测电压：通电、选档、读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4"/>
          <p:cNvSpPr/>
          <p:nvPr/>
        </p:nvSpPr>
        <p:spPr>
          <a:xfrm>
            <a:off x="223920" y="333360"/>
            <a:ext cx="51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2"/>
          <p:cNvSpPr/>
          <p:nvPr/>
        </p:nvSpPr>
        <p:spPr>
          <a:xfrm>
            <a:off x="1282680" y="333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务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路搭建：在多孔实验板上搭建两个电阻串联的电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图片 1" descr=""/>
          <p:cNvPicPr/>
          <p:nvPr/>
        </p:nvPicPr>
        <p:blipFill>
          <a:blip r:embed="rId1"/>
          <a:stretch/>
        </p:blipFill>
        <p:spPr>
          <a:xfrm>
            <a:off x="1038240" y="1163520"/>
            <a:ext cx="2525760" cy="217188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" descr=""/>
          <p:cNvPicPr/>
          <p:nvPr/>
        </p:nvPicPr>
        <p:blipFill>
          <a:blip r:embed="rId2"/>
          <a:stretch/>
        </p:blipFill>
        <p:spPr>
          <a:xfrm>
            <a:off x="6372360" y="1197000"/>
            <a:ext cx="2717640" cy="213840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" descr=""/>
          <p:cNvPicPr/>
          <p:nvPr/>
        </p:nvPicPr>
        <p:blipFill>
          <a:blip r:embed="rId3"/>
          <a:stretch/>
        </p:blipFill>
        <p:spPr>
          <a:xfrm>
            <a:off x="3635280" y="1171440"/>
            <a:ext cx="2622600" cy="216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" descr=""/>
          <p:cNvPicPr/>
          <p:nvPr/>
        </p:nvPicPr>
        <p:blipFill>
          <a:blip r:embed="rId4"/>
          <a:stretch/>
        </p:blipFill>
        <p:spPr>
          <a:xfrm>
            <a:off x="1400040" y="4292640"/>
            <a:ext cx="3402000" cy="232416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" descr=""/>
          <p:cNvPicPr/>
          <p:nvPr/>
        </p:nvPicPr>
        <p:blipFill>
          <a:blip r:embed="rId5"/>
          <a:stretch/>
        </p:blipFill>
        <p:spPr>
          <a:xfrm>
            <a:off x="5132520" y="4307040"/>
            <a:ext cx="37083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4"/>
          <p:cNvSpPr/>
          <p:nvPr/>
        </p:nvSpPr>
        <p:spPr>
          <a:xfrm>
            <a:off x="223920" y="333360"/>
            <a:ext cx="51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华文琥珀"/>
                <a:ea typeface="华文琥珀"/>
              </a:rPr>
              <a:t>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2"/>
          <p:cNvSpPr/>
          <p:nvPr/>
        </p:nvSpPr>
        <p:spPr>
          <a:xfrm>
            <a:off x="1258920" y="549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务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测电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619280" y="2467080"/>
          <a:ext cx="6265800" cy="2762280"/>
        </p:xfrm>
        <a:graphic>
          <a:graphicData uri="http://schemas.openxmlformats.org/drawingml/2006/table">
            <a:tbl>
              <a:tblPr/>
              <a:tblGrid>
                <a:gridCol w="2087640"/>
                <a:gridCol w="2087280"/>
                <a:gridCol w="2090880"/>
              </a:tblGrid>
              <a:tr h="92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2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2088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Gill Sans MT"/>
                          <a:ea typeface="华文中宋"/>
                        </a:rPr>
                        <a:t>结论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0" name="Rectangle 1"/>
          <p:cNvSpPr/>
          <p:nvPr/>
        </p:nvSpPr>
        <p:spPr>
          <a:xfrm>
            <a:off x="2175840" y="1230840"/>
            <a:ext cx="541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手机端接收的微课视频再次学习测电阻方法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测量数据填入下列表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8T01:35:21Z</dcterms:created>
  <dc:creator>acer</dc:creator>
  <dc:description/>
  <dc:language>en-US</dc:language>
  <cp:lastModifiedBy>114</cp:lastModifiedBy>
  <dcterms:modified xsi:type="dcterms:W3CDTF">2018-06-23T07:17:41Z</dcterms:modified>
  <cp:revision>53</cp:revision>
  <dc:subject/>
  <dc:title>幻灯片 1</dc:title>
</cp:coreProperties>
</file>