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01D-642C-47BB-9C9D-5FC01BA3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938-3650-4D41-8E0C-43B6758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256-2629-47C3-8FFD-718897B2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36E-4E02-47B6-AF12-7B703599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DE60-9E8D-4C21-89FF-9087255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48A9-0518-4582-A847-DAA5CB97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CE5-41D1-4D7F-A56D-1A90A193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7608-FB20-4D74-864D-A308AF30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268A-231C-4EED-B41D-9DDB833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A7C2-AE76-4527-83A8-D21C7516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F57C-BF50-49F2-9906-7DB8AE2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6FA-C5B5-4BB5-A4A2-ECC2A88F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4169-5F14-4F5A-B34F-2BABE4A6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DAC-6A7C-4E5A-84C6-8EC233E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CF5-C8BD-44C1-9EA5-3DE9AC0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D018-B057-443B-A3DF-B86D98B0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0E7E-F543-48BC-8295-ED3AEDC2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EA24A-50C1-4349-8609-12D8426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674A3-388D-4E27-8932-73DDD2E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359FC-F7D3-4912-9F00-6EF102F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6F511-06F2-4EC8-8CEA-DF86347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44E8E-4E60-4C7C-8B2C-E350EE3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296-8F61-450B-AE7D-58F3FE06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C6A70-6A0A-4DED-84F7-32F34FE2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C9C6A-4132-4081-B0BD-7EE9A436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B2E47-9E42-45BD-8DCB-9D41F408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B168D-430B-4D0A-86E5-BCA6F60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41FF0-4846-47F4-B215-FBD34795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3F0C4-2BCF-42D2-B8BA-DB6494C4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DF46D0-B2F7-4073-9030-A2BF0C61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F13C-1B98-4324-8D92-243159F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6376-9132-4EC7-8A69-23D57B8C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AF5A-BB75-43F2-9398-34F28517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38C-BBB7-4121-96A1-18FA8540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4533-0AA3-42FD-BCB7-24C91075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B221-A480-4243-80EA-27BB9990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DA8C-990D-477E-A46E-DB4D656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D0ED-3CB4-4DC7-A484-EBEA7D3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DFE6-076B-43E8-9087-01A61BC3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A615-1D7B-4FD0-B945-1AB4EB1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07C2C-5C1C-458D-A2A1-9D81E57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D980-3B2A-497C-B9CA-A8A55385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DDAD-0CBD-46C1-8887-3F4BDE02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C94F-6919-4F61-9A2E-C0E221D2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3A1-7BDA-454B-ACE7-D0AB337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003B0-7C83-49B9-9612-9B04F548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D4C6-12F5-4FE3-9982-815C7887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806EB-E9D6-4DA2-BEB2-EB9385E3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8B856-E0AE-4065-A76B-6231704F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4058E-3F78-44E8-9AF5-7A50E8D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0813-AB89-4B3F-92AB-A0081AF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F6DF-A65E-48B4-9D0E-1FB4E087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3560-E1A0-4EF3-9A2A-9C121B2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C902-03FE-412B-98FD-F52EB62B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925C-DFB2-4F64-93B5-230458B7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886-40B6-495B-97C1-FE7A091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9363F-0F31-456D-AF95-C3DC0948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C51-3B79-4305-ABC4-5DECD4A6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65B-6B76-4264-AF69-E936879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DF9-B118-4EDF-B02F-B069D4D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A82F-29A9-40B5-BDD4-4E751A402E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17F8-784C-4C9D-AA99-EC1A57F843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55DF-6DF3-4564-8DF4-9622D57E27F2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629A-B4B2-41F3-959F-F05255DB7E0E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8722-5CC7-4AAB-AD12-E807DD840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1.xml"/><Relationship Id="rId3" Type="http://schemas.openxmlformats.org/officeDocument/2006/relationships/image" Target="../media/image10.jpeg"/><Relationship Id="rId4" Type="http://schemas.openxmlformats.org/officeDocument/2006/relationships/slide" Target="slide11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7%E5%CC%C0%C3%E6&amp;in=666&amp;cl=2&amp;cm=1&amp;sc=0&amp;lm=-1&amp;pn=57&amp;rn=1&amp;di=2456869244&amp;ln=96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95640" y="1052280"/>
            <a:ext cx="464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复述情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讲述的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人物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时间）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地点）吃荞麦面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987640" y="21286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母子三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6372360" y="2133720"/>
            <a:ext cx="8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001160" y="2705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大年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763880" y="2708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北海道面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68360" y="333360"/>
            <a:ext cx="504036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第一活动单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2133720"/>
            <a:ext cx="7200720" cy="32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评选感动人物 </a:t>
            </a:r>
            <a:r>
              <a:rPr b="1" lang="zh-CN" sz="4000" spc="-1" strike="noStrike">
                <a:solidFill>
                  <a:srgbClr val="cccc00"/>
                </a:solidFill>
                <a:latin typeface="Arial"/>
                <a:ea typeface="楷体_GB2312"/>
              </a:rPr>
              <a:t>★★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母子三人而感动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（母亲、兄弟 ）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老板夫妇而感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651640" y="1844640"/>
            <a:ext cx="1833480" cy="2376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67280" y="4149720"/>
            <a:ext cx="1650960" cy="19432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796000" y="2060640"/>
            <a:ext cx="1873080" cy="2089080"/>
          </a:xfrm>
          <a:custGeom>
            <a:avLst/>
            <a:gdLst>
              <a:gd name="textAreaLeft" fmla="*/ 121320 w 1873080"/>
              <a:gd name="textAreaRight" fmla="*/ 1751760 w 1873080"/>
              <a:gd name="textAreaTop" fmla="*/ 121320 h 2089080"/>
              <a:gd name="textAreaBottom" fmla="*/ 1967760 h 2089080"/>
            </a:gdLst>
            <a:ahLst/>
            <a:rect l="textAreaLeft" t="textAreaTop" r="textAreaRight" b="textAreaBottom"/>
            <a:pathLst>
              <a:path w="21600" h="24090">
                <a:moveTo>
                  <a:pt x="0" y="0"/>
                </a:moveTo>
                <a:lnTo>
                  <a:pt x="21600" y="0"/>
                </a:lnTo>
                <a:lnTo>
                  <a:pt x="21600" y="24090"/>
                </a:lnTo>
                <a:lnTo>
                  <a:pt x="0" y="24090"/>
                </a:lnTo>
                <a:close/>
              </a:path>
              <a:path fill="lightenLess" w="21600" h="240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90">
                <a:moveTo>
                  <a:pt x="21600" y="0"/>
                </a:moveTo>
                <a:lnTo>
                  <a:pt x="21600" y="24090"/>
                </a:lnTo>
                <a:lnTo>
                  <a:pt x="20200" y="22690"/>
                </a:lnTo>
                <a:lnTo>
                  <a:pt x="20200" y="1400"/>
                </a:lnTo>
                <a:close/>
              </a:path>
              <a:path fill="darkenLess" w="21600" h="24090">
                <a:moveTo>
                  <a:pt x="21600" y="24090"/>
                </a:moveTo>
                <a:lnTo>
                  <a:pt x="0" y="24090"/>
                </a:lnTo>
                <a:lnTo>
                  <a:pt x="1400" y="22690"/>
                </a:lnTo>
                <a:lnTo>
                  <a:pt x="20200" y="22690"/>
                </a:lnTo>
                <a:close/>
              </a:path>
              <a:path fill="lighten" w="21600" h="24090">
                <a:moveTo>
                  <a:pt x="0" y="240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9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5651640" y="4292640"/>
            <a:ext cx="1655640" cy="1871640"/>
          </a:xfrm>
          <a:custGeom>
            <a:avLst/>
            <a:gdLst>
              <a:gd name="textAreaLeft" fmla="*/ 107280 w 1655640"/>
              <a:gd name="textAreaRight" fmla="*/ 1548360 w 1655640"/>
              <a:gd name="textAreaTop" fmla="*/ 107280 h 1871640"/>
              <a:gd name="textAreaBottom" fmla="*/ 1764360 h 1871640"/>
            </a:gdLst>
            <a:ahLst/>
            <a:rect l="textAreaLeft" t="textAreaTop" r="textAreaRight" b="textAreaBottom"/>
            <a:pathLst>
              <a:path w="21600" h="24417">
                <a:moveTo>
                  <a:pt x="0" y="0"/>
                </a:moveTo>
                <a:lnTo>
                  <a:pt x="21600" y="0"/>
                </a:lnTo>
                <a:lnTo>
                  <a:pt x="21600" y="24417"/>
                </a:lnTo>
                <a:lnTo>
                  <a:pt x="0" y="24417"/>
                </a:lnTo>
                <a:close/>
              </a:path>
              <a:path fill="lightenLess" w="21600" h="24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417">
                <a:moveTo>
                  <a:pt x="21600" y="0"/>
                </a:moveTo>
                <a:lnTo>
                  <a:pt x="21600" y="24417"/>
                </a:lnTo>
                <a:lnTo>
                  <a:pt x="20200" y="23017"/>
                </a:lnTo>
                <a:lnTo>
                  <a:pt x="20200" y="1400"/>
                </a:lnTo>
                <a:close/>
              </a:path>
              <a:path fill="darkenLess" w="21600" h="24417">
                <a:moveTo>
                  <a:pt x="21600" y="24417"/>
                </a:moveTo>
                <a:lnTo>
                  <a:pt x="0" y="24417"/>
                </a:lnTo>
                <a:lnTo>
                  <a:pt x="1400" y="23017"/>
                </a:lnTo>
                <a:lnTo>
                  <a:pt x="20200" y="23017"/>
                </a:lnTo>
                <a:close/>
              </a:path>
              <a:path fill="lighten" w="21600" h="24417">
                <a:moveTo>
                  <a:pt x="0" y="24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01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">
            <a:hlinkClick r:id="rId5" action="ppaction://hlinksldjump"/>
          </p:cNvPr>
          <p:cNvSpPr/>
          <p:nvPr/>
        </p:nvSpPr>
        <p:spPr>
          <a:xfrm>
            <a:off x="831708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cccc00">
              <a:alpha val="23000"/>
            </a:srgbClr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620640"/>
            <a:ext cx="1871640" cy="1079640"/>
          </a:xfrm>
          <a:prstGeom prst="cloudCallout">
            <a:avLst>
              <a:gd name="adj1" fmla="val -16074"/>
              <a:gd name="adj2" fmla="val 117060"/>
            </a:avLst>
          </a:prstGeom>
          <a:solidFill>
            <a:srgbClr val="cc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小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讨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诵课文：第三次吃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一碗清汤荞麦面.mp3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20090803110705894"/>
          <p:cNvPicPr/>
          <p:nvPr/>
        </p:nvPicPr>
        <p:blipFill>
          <a:blip r:embed="rId2"/>
          <a:stretch/>
        </p:blipFill>
        <p:spPr>
          <a:xfrm>
            <a:off x="809640" y="2433600"/>
            <a:ext cx="62834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14180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的处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孩子的父亲死于交通事故，生前欠下八个人的钱。母亲把抚恤金全部用于还债，还不够的部分每月五万元分期偿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他们的努力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亲：努力工作得到公司的特别补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68360" y="3357720"/>
            <a:ext cx="770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弟弟：买菜烧饭、放弃俱乐部的活动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作文获奖、隐藏老师的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68360" y="2708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哥哥：送报赚钱、替妈妈开家长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248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奋斗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：剩下的债，到明年三月就可以还清了，可实际上，今天就可全部还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哥哥：“我通过了医生的国家考试，现在京都的大学医院里当实习医生。明年四月，我将到札幌的综合医院工作。还没有开面馆的弟弟，现在京都的银行里工作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42360" y="90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还清债务，走出困境，幸福生活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向母子三人学习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987280" y="1628640"/>
            <a:ext cx="49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自强不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互相关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团结奋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050920" y="260280"/>
            <a:ext cx="4032360" cy="86364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cccc00">
                  <a:alpha val="52156"/>
                </a:srgbClr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楷体_GB2312"/>
              </a:rPr>
              <a:t>师生感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403280" y="1197000"/>
            <a:ext cx="748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菜单上最廉价的一碗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从母子三人从碗里捞起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33"/>
                </a:solidFill>
                <a:uFillTx/>
                <a:latin typeface="楷体_GB2312"/>
                <a:ea typeface="楷体_GB2312"/>
              </a:rPr>
              <a:t>坚韧与团结  不屈与奋进  亲情与关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碗面从此就变得昂贵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碗普通的清汤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从面馆老板在碗里拌进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33"/>
                </a:solidFill>
                <a:uFillTx/>
                <a:latin typeface="楷体_GB2312"/>
                <a:ea typeface="楷体_GB2312"/>
              </a:rPr>
              <a:t>善良与尊重 关爱与祝福 真诚与热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碗面便不再普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229360"/>
            <a:ext cx="1584360" cy="1368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00000" y="1268280"/>
            <a:ext cx="432000" cy="432000"/>
          </a:xfrm>
          <a:custGeom>
            <a:avLst/>
            <a:gdLst>
              <a:gd name="textAreaLeft" fmla="*/ 177840 w 432000"/>
              <a:gd name="textAreaRight" fmla="*/ 254160 w 43200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3789360"/>
            <a:ext cx="432000" cy="360360"/>
          </a:xfrm>
          <a:custGeom>
            <a:avLst/>
            <a:gdLst>
              <a:gd name="textAreaLeft" fmla="*/ 177840 w 432000"/>
              <a:gd name="textAreaRight" fmla="*/ 254160 w 43200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611280" y="765000"/>
            <a:ext cx="3673440" cy="1079640"/>
          </a:xfrm>
          <a:custGeom>
            <a:avLst/>
            <a:gdLst>
              <a:gd name="textAreaLeft" fmla="*/ 69840 w 3673440"/>
              <a:gd name="textAreaRight" fmla="*/ 3603600 w 36734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73476" h="21600">
                <a:moveTo>
                  <a:pt x="0" y="0"/>
                </a:moveTo>
                <a:lnTo>
                  <a:pt x="73476" y="0"/>
                </a:lnTo>
                <a:lnTo>
                  <a:pt x="73476" y="21600"/>
                </a:lnTo>
                <a:lnTo>
                  <a:pt x="0" y="21600"/>
                </a:lnTo>
                <a:close/>
              </a:path>
              <a:path fill="lightenLess" w="73476" h="21600">
                <a:moveTo>
                  <a:pt x="0" y="0"/>
                </a:moveTo>
                <a:lnTo>
                  <a:pt x="73476" y="0"/>
                </a:lnTo>
                <a:lnTo>
                  <a:pt x="72076" y="1400"/>
                </a:lnTo>
                <a:lnTo>
                  <a:pt x="1400" y="1400"/>
                </a:lnTo>
                <a:close/>
              </a:path>
              <a:path fill="darken" w="73476" h="21600">
                <a:moveTo>
                  <a:pt x="73476" y="0"/>
                </a:moveTo>
                <a:lnTo>
                  <a:pt x="73476" y="21600"/>
                </a:lnTo>
                <a:lnTo>
                  <a:pt x="72076" y="20200"/>
                </a:lnTo>
                <a:lnTo>
                  <a:pt x="72076" y="1400"/>
                </a:lnTo>
                <a:close/>
              </a:path>
              <a:path fill="darkenLess" w="73476" h="21600">
                <a:moveTo>
                  <a:pt x="73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76" y="20200"/>
                </a:lnTo>
                <a:close/>
              </a:path>
              <a:path fill="lighten" w="73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981000"/>
            <a:ext cx="3673800" cy="1079640"/>
          </a:xfrm>
          <a:custGeom>
            <a:avLst/>
            <a:gdLst>
              <a:gd name="textAreaLeft" fmla="*/ 69840 w 3673800"/>
              <a:gd name="textAreaRight" fmla="*/ 3603960 w 36738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73483" h="21600">
                <a:moveTo>
                  <a:pt x="0" y="0"/>
                </a:moveTo>
                <a:lnTo>
                  <a:pt x="73483" y="0"/>
                </a:lnTo>
                <a:lnTo>
                  <a:pt x="73483" y="21600"/>
                </a:lnTo>
                <a:lnTo>
                  <a:pt x="0" y="21600"/>
                </a:lnTo>
                <a:close/>
              </a:path>
              <a:path fill="lightenLess" w="73483" h="21600">
                <a:moveTo>
                  <a:pt x="0" y="0"/>
                </a:moveTo>
                <a:lnTo>
                  <a:pt x="73483" y="0"/>
                </a:lnTo>
                <a:lnTo>
                  <a:pt x="72083" y="1400"/>
                </a:lnTo>
                <a:lnTo>
                  <a:pt x="1400" y="1400"/>
                </a:lnTo>
                <a:close/>
              </a:path>
              <a:path fill="darken" w="73483" h="21600">
                <a:moveTo>
                  <a:pt x="73483" y="0"/>
                </a:moveTo>
                <a:lnTo>
                  <a:pt x="73483" y="21600"/>
                </a:lnTo>
                <a:lnTo>
                  <a:pt x="72083" y="20200"/>
                </a:lnTo>
                <a:lnTo>
                  <a:pt x="72083" y="1400"/>
                </a:lnTo>
                <a:close/>
              </a:path>
              <a:path fill="darkenLess" w="73483" h="21600">
                <a:moveTo>
                  <a:pt x="734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83" y="20200"/>
                </a:lnTo>
                <a:close/>
              </a:path>
              <a:path fill="lighten" w="734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0"/>
            <a:ext cx="496872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第二活动单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2205000"/>
            <a:ext cx="813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241800" cy="4969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400" y="1700280"/>
            <a:ext cx="15634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学习店老板身上的优   秀职业素养，做一名优秀的职业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33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dd00"/>
                </a:solidFill>
                <a:latin typeface="Arial"/>
                <a:ea typeface="楷体_GB2312"/>
              </a:rPr>
              <a:t>★★★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468360" y="836640"/>
          <a:ext cx="8353440" cy="5624640"/>
        </p:xfrm>
        <a:graphic>
          <a:graphicData uri="http://schemas.openxmlformats.org/drawingml/2006/table">
            <a:tbl>
              <a:tblPr/>
              <a:tblGrid>
                <a:gridCol w="503280"/>
                <a:gridCol w="433440"/>
                <a:gridCol w="4464000"/>
                <a:gridCol w="2952720"/>
              </a:tblGrid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  <a:ea typeface="楷体_GB2312"/>
                        </a:rPr>
                        <a:t>迎客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“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欢迎光临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”  迎上前招呼着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2“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请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，请里边坐”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“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欢迎光临” 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笑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着迎上去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待客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、领到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靠暖气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的</a:t>
                      </a:r>
                      <a:r>
                        <a:rPr b="1" lang="zh-CN" sz="2400" spc="-1" strike="noStrike" u="sng">
                          <a:solidFill>
                            <a:srgbClr val="0033cc"/>
                          </a:solidFill>
                          <a:uFillTx/>
                          <a:latin typeface="楷体_GB2312"/>
                          <a:ea typeface="楷体_GB2312"/>
                        </a:rPr>
                        <a:t>二号桌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；老板抓起一堆，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又加了半堆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0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、带到同样的</a:t>
                      </a:r>
                      <a:r>
                        <a:rPr b="1" lang="zh-CN" sz="2400" spc="-1" strike="noStrike" u="sng">
                          <a:solidFill>
                            <a:srgbClr val="0033cc"/>
                          </a:solidFill>
                          <a:uFillTx/>
                          <a:latin typeface="楷体_GB2312"/>
                          <a:ea typeface="楷体_GB2312"/>
                        </a:rPr>
                        <a:t>二号桌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；将已熄灭的炉火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重又点起来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；下三碗不行，“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他们会尴尬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0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若无其事的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藏起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 “预约席”的牌子，把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楷体_GB2312"/>
                          <a:ea typeface="楷体_GB2312"/>
                        </a:rPr>
                        <a:t>三碗的分量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楷体_GB2312"/>
                          <a:ea typeface="楷体_GB2312"/>
                        </a:rPr>
                        <a:t>放进锅里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楷体_GB2312"/>
                        </a:rPr>
                        <a:t>送客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楷体_GB2312"/>
                        </a:rPr>
                        <a:t>谢谢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990033"/>
                          </a:solidFill>
                          <a:latin typeface="Arial"/>
                          <a:ea typeface="楷体_GB2312"/>
                        </a:rPr>
                        <a:t>祝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Arial"/>
                          <a:ea typeface="楷体_GB2312"/>
                        </a:rPr>
                        <a:t>你们过个好年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5867280" y="1052640"/>
            <a:ext cx="305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周到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热情，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微笑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服务，对待顾客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一视同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242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人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化与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个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化的服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96000" y="3716280"/>
            <a:ext cx="313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对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回头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有良好的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记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能力，使客人感到亲近；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尊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顾客的感受；注意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楷体_GB2312"/>
              </a:rPr>
              <a:t>细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；敬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2000" y="6021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周到热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79640" y="18900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00"/>
                </a:solidFill>
                <a:latin typeface="Arial"/>
                <a:ea typeface="楷体_GB2312"/>
              </a:rPr>
              <a:t>讨论：职业素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32720" y="189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dd00"/>
                </a:solidFill>
                <a:latin typeface="Arial"/>
                <a:ea typeface="楷体_GB2312"/>
              </a:rPr>
              <a:t>★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284360" y="1412640"/>
            <a:ext cx="43909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店内重新装修，桌椅都换了新的，</a:t>
            </a:r>
            <a:r>
              <a:rPr b="1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二号桌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却依然如故。（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69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然段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dd00"/>
                </a:solidFill>
                <a:latin typeface="Arial"/>
              </a:rPr>
              <a:t>   ★★★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善于利用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无形的广告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提升面馆的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品位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知名度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15240" y="1773360"/>
            <a:ext cx="3530880" cy="4320720"/>
            <a:chOff x="615240" y="1773360"/>
            <a:chExt cx="3530880" cy="4320720"/>
          </a:xfrm>
        </p:grpSpPr>
        <p:pic>
          <p:nvPicPr>
            <p:cNvPr id="320" name="" descr=""/>
            <p:cNvPicPr/>
            <p:nvPr/>
          </p:nvPicPr>
          <p:blipFill>
            <a:blip r:embed="rId1">
              <a:lum contrast="-12000"/>
            </a:blip>
            <a:stretch/>
          </p:blipFill>
          <p:spPr>
            <a:xfrm>
              <a:off x="618840" y="1773360"/>
              <a:ext cx="3527280" cy="43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15240" y="2674440"/>
              <a:ext cx="485280" cy="34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00"/>
                  </a:solidFill>
                  <a:latin typeface="Garamond"/>
                </a:rPr>
                <a:t>幸福的见证    二号桌</a:t>
              </a:r>
              <a:endParaRPr b="0" lang="en-US" sz="20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04000" y="333360"/>
            <a:ext cx="1944720" cy="1079640"/>
          </a:xfrm>
          <a:prstGeom prst="cloudCallout">
            <a:avLst>
              <a:gd name="adj1" fmla="val -28449"/>
              <a:gd name="adj2" fmla="val 143675"/>
            </a:avLst>
          </a:prstGeom>
          <a:solidFill>
            <a:srgbClr val="cccc0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小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讨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404640"/>
            <a:ext cx="3311280" cy="1008360"/>
          </a:xfrm>
          <a:prstGeom prst="rightArrowCallout">
            <a:avLst>
              <a:gd name="adj1" fmla="val 22206"/>
              <a:gd name="adj2" fmla="val 19134"/>
              <a:gd name="adj3" fmla="val 79648"/>
              <a:gd name="adj4" fmla="val 66667"/>
            </a:avLst>
          </a:prstGeom>
          <a:solidFill>
            <a:srgbClr val="cccc00">
              <a:alpha val="38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职业素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7280" y="333360"/>
            <a:ext cx="2376360" cy="1008000"/>
          </a:xfrm>
          <a:prstGeom prst="roundRect">
            <a:avLst>
              <a:gd name="adj" fmla="val 16667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经营策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020000" y="5661000"/>
            <a:ext cx="18000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042920" y="836640"/>
            <a:ext cx="68374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优秀职业素养的基石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4508640"/>
            <a:ext cx="633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71640" y="4581360"/>
            <a:ext cx="352908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>
                  <a:alpha val="59215"/>
                </a:srgbClr>
              </a:gs>
            </a:gsLst>
            <a:lin ang="5400000"/>
          </a:gradFill>
          <a:ln w="9360">
            <a:solidFill>
              <a:srgbClr val="606b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592360" cy="1878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348000" y="4869000"/>
            <a:ext cx="29512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Arial"/>
                <a:ea typeface="楷体_GB2312"/>
              </a:rPr>
              <a:t>善     良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2340000" y="189000"/>
            <a:ext cx="6553080" cy="2158920"/>
          </a:xfrm>
          <a:prstGeom prst="cloudCallout">
            <a:avLst>
              <a:gd name="adj1" fmla="val -48351"/>
              <a:gd name="adj2" fmla="val 40662"/>
            </a:avLst>
          </a:prstGeom>
          <a:solidFill>
            <a:srgbClr val="ffffff">
              <a:alpha val="87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71640" y="69228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苦难的经历并不是我们博得别人同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的资本，奋斗才是最重要的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8000" y="2349360"/>
            <a:ext cx="6696360" cy="2160720"/>
          </a:xfrm>
          <a:prstGeom prst="cloudCallout">
            <a:avLst>
              <a:gd name="adj1" fmla="val 45685"/>
              <a:gd name="adj2" fmla="val 57347"/>
            </a:avLst>
          </a:prstGeom>
          <a:solidFill>
            <a:srgbClr val="ff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08720" y="292392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真正有才能的人总是善良的，坦白的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爽直的，做一个善良的人吧！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8360" y="620640"/>
            <a:ext cx="1150920" cy="4115880"/>
          </a:xfrm>
          <a:prstGeom prst="rect">
            <a:avLst/>
          </a:prstGeom>
          <a:solidFill>
            <a:srgbClr val="ffff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师生共勉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4360" y="189000"/>
            <a:ext cx="2663640" cy="136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作   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1280" y="1916280"/>
            <a:ext cx="792144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假如文中的弟弟开了一家面馆，  他将如何对待他的顾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当弟弟了解到一位顾客遇到了挫折，他将如何以自己的言行鼓起这位顾客的勇气？构思一个故事情节，写一个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40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字的小片段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798920" cy="1656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232000" cy="1108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51280" y="404640"/>
            <a:ext cx="2449440" cy="936720"/>
          </a:xfrm>
          <a:prstGeom prst="wedgeRoundRectCallout">
            <a:avLst>
              <a:gd name="adj1" fmla="val -45268"/>
              <a:gd name="adj2" fmla="val 101018"/>
              <a:gd name="adj3" fmla="val 16667"/>
            </a:avLst>
          </a:prstGeom>
          <a:solidFill>
            <a:srgbClr val="cccc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至少写一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4360" y="5300640"/>
            <a:ext cx="4392360" cy="1081080"/>
          </a:xfrm>
          <a:prstGeom prst="cloudCallout">
            <a:avLst>
              <a:gd name="adj1" fmla="val 85129"/>
              <a:gd name="adj2" fmla="val -5064"/>
            </a:avLst>
          </a:prstGeom>
          <a:solidFill>
            <a:srgbClr val="cccc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定独立完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258920" y="1341360"/>
            <a:ext cx="691344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Arial"/>
                <a:ea typeface="楷体_GB2312"/>
              </a:rPr>
              <a:t>敬请批评指正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3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Arial"/>
                <a:ea typeface="楷体_GB2312"/>
              </a:rPr>
              <a:t>谢谢！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9838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99964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3124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4920" y="190440"/>
            <a:ext cx="89298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920" y="117360"/>
            <a:ext cx="907416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-177840" y="117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-389160" y="1557360"/>
            <a:ext cx="10335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日本的象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富士山樱花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341360"/>
            <a:ext cx="6048360" cy="2664000"/>
          </a:xfrm>
          <a:prstGeom prst="ellipse">
            <a:avLst/>
          </a:prstGeom>
          <a:solidFill>
            <a:srgbClr val="0033cc">
              <a:alpha val="94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一碗清汤荞麦面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作者  栗良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7960" y="5637240"/>
            <a:ext cx="311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1600" y="53334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韩国三星集团会长李建熙强烈推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第十一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刊登了一篇日本作家栗良平写的与荞麦面有关的文章，这篇文章后来成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创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最具影响力的十篇文章之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始人胡亚权的荐语：这是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篇令人垂泪的好文章，讲的是爱心，爱与被爱，示爱与报答。这些人世间最美好的东西，使这篇文章成为道德范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08:20Z</dcterms:created>
  <dc:creator>雨林木风</dc:creator>
  <dc:description/>
  <cp:keywords/>
  <dc:language>en-US</dc:language>
  <cp:lastModifiedBy>User</cp:lastModifiedBy>
  <dcterms:modified xsi:type="dcterms:W3CDTF">2013-10-15T03:16:19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